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819CB2-6A11-45CA-9F04-D2CC2693D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F707F9-5221-40C2-B681-0FEDEFFA9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5456C3-C7D6-482D-9411-8A37EDA07C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3E1F89-3C76-40A5-85F9-EB84659B3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232D1-22D5-4D6B-A620-13FE914C2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C961A-1794-4EA9-943F-078F3D7BF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CC9F4-4305-4127-B123-852B82BD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59841-5EB8-4089-8D3A-A0525151C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660D9-C4BA-4B9B-9229-82633623B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B0BE6-BCE9-4E57-B239-80E8BC537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E082A-4025-4A7A-9CC2-1F900D68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55398-9779-4C07-ACD8-49FE395C8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1522-FAD6-4990-AAE5-411B0E85E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C4480-865E-4A15-9060-1BAEBF049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1B992-21A5-454B-A064-36A9AF2D9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A53C3-E15B-4AD9-9046-C7E389B19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57044-4A0F-494B-9891-363259FBF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6F69E1-72D7-4A6D-B2B8-F3CBF49BF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2F815B-47C4-4042-AB38-D5C6C7A99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37879-7E0F-442A-8E26-11CFB41F6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8EBE67-6714-43E3-931B-4E837FE58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84C111-FFDD-456D-B7A1-4A84292C4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50A12-BEE3-4E66-A3D9-A3335DC1F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FC9AE-6020-443A-8F4B-0AA03BD3E8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0A6E-9982-41D5-8C55-B8476DB376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DD2E-F5BC-45AF-9CFF-52F3A955DA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Quality Assuranc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6</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FAFAF20-EB5F-4A49-8DBC-D580D9A67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User-Satisfaction Quality Measurements - 2</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speed of adding new feat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virtues of competitive produ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the value versus the cost of the pack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450FC-0E7F-4101-B9B0-C3683C3C52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Measures User-Satisfaction?</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or sales organization of the software compan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ssociation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magazin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mpetitor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groups on the internet, etc.</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arty survey group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58C8A-D865-4C59-AE4A-137D65DB2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hering User-Satisfaction Data</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s of customer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usability laboratorie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beta tests</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s from user associations for improvements in usability</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itation of usability features of competitive or similar products by other vendor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BBBFF0-E5B1-4021-A31C-8701ACFB7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Software Quality Measurement</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understanding of need to measure qual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technical staff shies away from getting their work measur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ly, “lines of code” or LOC and “cost per defect” metrics have been used, which are a poor way of measuring software quality</a:t>
            </a:r>
            <a:endParaRPr b="0" lang="en-US" sz="3200" spc="-1" strike="noStrike">
              <a:solidFill>
                <a:srgbClr val="000000"/>
              </a:solidFill>
              <a:latin typeface="Arial"/>
            </a:endParaRPr>
          </a:p>
        </p:txBody>
      </p:sp>
      <p:sp>
        <p:nvSpPr>
          <p:cNvPr id="132" name=""/>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838080" y="21337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D67BEC-466B-4E0E-9B9E-F072F3D1B3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Oriented Quality Level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technology is being adopted world-wide with a claim that it produces better quality software product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 technology has a steep learning curve, and as a result it may be difficult to achiever high quality software</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ata needs to be reported</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 may play a significant ro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A99CAD-535B-4DAE-A653-A2D96CF35F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thogonal Defect Reporting - 1</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way of dealing with software defects is to simply aggregate the total volumes of bug reports, sometimes augmented by severity levels and assertions as to whether defects originated in requirements, design, code, user documents, or as “bad fix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380BE-80CF-4878-8F10-C234AE545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thogonal Defect Reporting - 2</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orthogonal defect classification (ODC) method, defects are identified using the following criteria</a:t>
            </a:r>
            <a:endParaRPr b="0" lang="en-US" sz="3200" spc="-1" strike="noStrike">
              <a:solidFill>
                <a:srgbClr val="000000"/>
              </a:solidFill>
              <a:latin typeface="Arial"/>
            </a:endParaRPr>
          </a:p>
          <a:p>
            <a:pPr lvl="1" marL="735480" indent="-28296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method </a:t>
            </a:r>
            <a:r>
              <a:rPr b="0" lang="en-US" sz="1400" spc="-1" strike="noStrike">
                <a:solidFill>
                  <a:srgbClr val="000000"/>
                </a:solidFill>
                <a:latin typeface="Arial"/>
              </a:rPr>
              <a:t>(design/code inspection, or any of a variety of testing steps)</a:t>
            </a:r>
            <a:endParaRPr b="0" lang="en-US" sz="1400" spc="-1" strike="noStrike">
              <a:solidFill>
                <a:srgbClr val="000000"/>
              </a:solidFill>
              <a:latin typeface="Arial"/>
            </a:endParaRPr>
          </a:p>
          <a:p>
            <a:pPr lvl="1" marL="735480" indent="-28296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 </a:t>
            </a:r>
            <a:r>
              <a:rPr b="0" lang="en-US" sz="1400" spc="-1" strike="noStrike">
                <a:solidFill>
                  <a:srgbClr val="000000"/>
                </a:solidFill>
                <a:latin typeface="Arial"/>
              </a:rPr>
              <a:t>(system completely down, performance downgraded, or questionable data integrity)</a:t>
            </a:r>
            <a:endParaRPr b="0" lang="en-US" sz="1400" spc="-1" strike="noStrike">
              <a:solidFill>
                <a:srgbClr val="000000"/>
              </a:solidFill>
              <a:latin typeface="Arial"/>
            </a:endParaRPr>
          </a:p>
          <a:p>
            <a:pPr lvl="1" marL="735480" indent="-28296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a:t>
            </a:r>
            <a:r>
              <a:rPr b="0" lang="en-US" sz="1400" spc="-1" strike="noStrike">
                <a:solidFill>
                  <a:srgbClr val="000000"/>
                </a:solidFill>
                <a:latin typeface="Arial"/>
              </a:rPr>
              <a:t>(interface problems, algorithm errors, missing function, or documentation error)</a:t>
            </a:r>
            <a:endParaRPr b="0" lang="en-US" sz="1400" spc="-1" strike="noStrike">
              <a:solidFill>
                <a:srgbClr val="000000"/>
              </a:solidFill>
              <a:latin typeface="Arial"/>
            </a:endParaRPr>
          </a:p>
          <a:p>
            <a:pPr lvl="1" marL="735480" indent="-28296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 </a:t>
            </a:r>
            <a:r>
              <a:rPr b="0" lang="en-US" sz="1400" spc="-1" strike="noStrike">
                <a:solidFill>
                  <a:srgbClr val="000000"/>
                </a:solidFill>
                <a:latin typeface="Arial"/>
              </a:rPr>
              <a:t>(start-up / heavy utilization /  termination of application, or installation)</a:t>
            </a:r>
            <a:endParaRPr b="0" lang="en-US" sz="1400" spc="-1" strike="noStrike">
              <a:solidFill>
                <a:srgbClr val="000000"/>
              </a:solidFill>
              <a:latin typeface="Arial"/>
            </a:endParaRPr>
          </a:p>
          <a:p>
            <a:pPr lvl="1" marL="735480" indent="-28296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1400" spc="-1" strike="noStrike">
                <a:solidFill>
                  <a:srgbClr val="000000"/>
                </a:solidFill>
                <a:latin typeface="Arial"/>
              </a:rPr>
              <a:t>(version of of the projects using normal configuration control identifica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930539-97CE-4643-B481-A2B6AAFB2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sourcing and Software Quality</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ourcing in software industry is done in a variety of way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situation introduces new challenges for development of high quality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metrics must be mentioned in the outsourcing contra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71ED69-56AD-46A5-BB6E-92F78BA16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Estimating Tools - 1</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defect potentials for bugs in five categories (requirements, design, coding, documentation, and bad fix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defect severity levels into four categories, ranging from 1 (total or catastrophic failure) to severity 4 (minor or cosmetic probl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BEF9ED-E5F4-4C00-B214-96696005D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Estimating Tools - 2</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defect removal efficiency levels of various kinds of design reviews, inspections, and a dozen kinds of testing against each kind and severity of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number and severity of latent defects present in a software application when it is delivered to user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EEEE0-708D-4459-B91C-4D4A55690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iscuss different topics related to software 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last lecture in the first phase of this cour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C3AC44-5072-4940-8170-9E6EA5A78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Estimating Tools - 3</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number of user-reported defects on an annual basis for up to 20 yea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reliability of software at various intervals using mean-time to failure (MTTF) and/or mean-time between failures (MTBF) metric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35C20A-2537-48DA-89EA-FDEC659B0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Estimating Tools - 4</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stabilization period” or number of calendar months of production before users can execute the application without encountering severe error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efforts and costs devoted to various kinds of quality and defect removal efforts such as inspections, test-case preparation, defect removal,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82025-052D-41AD-A766-74AC898BBA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Estimating Tools - 5</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the number of test cases and test runs for all testing stag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maintenance costs for up to 20 years for fixing bugs (also for addi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special kinds of defect reports including duplicates and invalid reports which trigger investigative costs but no repair cos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E3815-4EAB-4665-B8D7-05E8A76466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Process Metric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arrival rate</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effectiveness</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by phase</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removal effectiveness</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 backlog</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log management index</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response time</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 delinquent fixes</a:t>
            </a:r>
            <a:endParaRPr b="0" lang="en-US" sz="28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ive fix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8E086C-01B4-4802-B275-B7808C361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Metrics</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ens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by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 time between fail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reported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47206-175E-4EA4-862E-87D7AFAB9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 Metric - 1</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eveloped at IBM and reported to public in 1979</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way of determining the size of a software application by enumerating and adjusting five visible aspects that are of significance to both users and develop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07F08E-AEE6-4784-A33F-728437E84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 Metric - 2</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that enter the application (i.e., Input screens, forms, commands, etc.)</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s that leave the application (i.e., Output screens, reports, etc.)</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ies that can be made to the application (i.e., Queries for information)</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files maintained by the application (i.e., Tables, text files,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D8DC29-8BEE-4DC8-A247-17FCFE9CF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 Metric - 3</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between the application and others (i.e., shared data, message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C9CEE-EB03-4C02-ADC0-E548336F98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 Metric - 4</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raw total of these five factors has been enumerated, then an additional set of 14 influential factors are evaluated for impact using a scale that runs from 0 (no impact) to 5 (major impa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8979E5-0819-44D2-81AC-83B435F6D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igation and Quality</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factors for software quality</a:t>
            </a:r>
            <a:endParaRPr b="0" lang="en-US" sz="3200" spc="-1" strike="noStrike">
              <a:solidFill>
                <a:srgbClr val="000000"/>
              </a:solidFill>
              <a:latin typeface="Arial"/>
            </a:endParaRPr>
          </a:p>
          <a:p>
            <a:pPr lvl="1" marL="683280" indent="-2628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reliability, integrity, usability, maintainability, testability, understandability</a:t>
            </a:r>
            <a:endParaRPr b="0" lang="en-US" sz="28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relevant factors for software quality</a:t>
            </a:r>
            <a:endParaRPr b="0" lang="en-US" sz="3200" spc="-1" strike="noStrike">
              <a:solidFill>
                <a:srgbClr val="000000"/>
              </a:solidFill>
              <a:latin typeface="Arial"/>
            </a:endParaRPr>
          </a:p>
          <a:p>
            <a:pPr lvl="1" marL="683280" indent="-2628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flexibility, portability, reusability, interoperability,  security</a:t>
            </a:r>
            <a:endParaRPr b="0" lang="en-US" sz="28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narrow down the scope of quality definition similar to hardware warrant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FA2698-3D06-4175-A01D-166DDDFBC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Quality Measurements</a:t>
            </a:r>
            <a:endParaRPr b="0" lang="en-US" sz="5000" spc="-1" strike="noStrike">
              <a:solidFill>
                <a:srgbClr val="ffffff"/>
              </a:solidFill>
              <a:latin typeface="Arial"/>
            </a:endParaRPr>
          </a:p>
        </p:txBody>
      </p:sp>
      <p:sp>
        <p:nvSpPr>
          <p:cNvPr id="11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0B0EF2-7E04-4157-822D-B29AC39B4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 Pressure and Quality</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y pressu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es and keeps morale of the personnel high</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pressu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serious negative impact on the morale of personne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ead to low quality softw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98C5BC-29B0-4254-B9EE-7910FAB79C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 cycle quality assurance activities are process oriented, in other words, linked to completion of a project phase, accomplishment of a project milestone, and so for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assurance activities will be integrated into the development plan that implements one ore more software development models – waterfall, prototyping, spiral,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6C32A0-7EE7-42D8-BA10-D7AE6EFA49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planners for a project are required to determine</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 of quality assurance activities needed for a project</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quality assurance activity</a:t>
            </a:r>
            <a:endParaRPr b="0" lang="en-US" sz="2800" spc="-1" strike="noStrike">
              <a:solidFill>
                <a:srgbClr val="000000"/>
              </a:solidFill>
              <a:latin typeface="Arial"/>
            </a:endParaRPr>
          </a:p>
          <a:p>
            <a:pPr lvl="2" marL="1119960" indent="-2239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a:t>
            </a:r>
            <a:endParaRPr b="0" lang="en-US" sz="2400" spc="-1" strike="noStrike">
              <a:solidFill>
                <a:srgbClr val="000000"/>
              </a:solidFill>
              <a:latin typeface="Arial"/>
            </a:endParaRPr>
          </a:p>
          <a:p>
            <a:pPr lvl="2" marL="1119960" indent="-2239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performs the activity and the resources needed</a:t>
            </a:r>
            <a:endParaRPr b="0" lang="en-US" sz="2400" spc="-1" strike="noStrike">
              <a:solidFill>
                <a:srgbClr val="000000"/>
              </a:solidFill>
              <a:latin typeface="Arial"/>
            </a:endParaRPr>
          </a:p>
          <a:p>
            <a:pPr lvl="2" marL="1119960" indent="-2239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required for removal of defects and introduction of chang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7A5A45-0B56-4767-92E3-52A383B5BA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evelopment plans, QA activities are spread throughout the process, but without any time allocated for their performance or for the subsequent removal of defects. As nothing is achieved without time, the almost guaranteed result is delay, caused by “unexpectedly” long duration of the QA process</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he time allocated for QA activities and the defects corrections work that follow should be examin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8F93A6-B74B-4C9B-BDD5-8787D7B500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nsity of the quality assurance activities planned, indicated by the number of required activities, is affected by project and team fact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6198A6-0B3E-4F00-B315-F7F90AA001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Factors</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nitude of the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omplexity and difficul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t of  reusable software compon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of failure outcomes if the project fai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F5BCE7-2F28-45E3-AB42-96A03F9854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Factors</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qualification of the team memb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acquaintance with the project and its experience in the are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staff members who can professionally support the tea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 with team members, in other words the percentage of new staff members in the tea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E9CD6B-9503-4BC6-A133-D575146BED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rror-Prone Modules?</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schedule pressure on the programmer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training or lack of experience in structured method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ly creeping requirements which trigger late change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 levels with cyclomatic ranges greater than 1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05454-530B-40F0-981A-AA06DAFDC2A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ood Enough” Software Quality - 1</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 than striving for zero-defect levels or striving to exceed in 99% in defect removal efficiency, it is better to ship software with some defects still present in order to speed up or shorten time to market intervals</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by the fact that major commercial software companies have latent software bugs in their released produ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AADBF-9F37-4ED0-BEF2-6DDC3729C42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ood Enough” Software Quality - 2</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commercial software companies have cumulative defect removal efficiency of 95% (and 99% on their best project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cept is very hazardous for ordinary companies, which usually have their defect removal efficiency level between 80%-85%</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will be decrease for these compan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9044E-5EDD-4D24-B51B-7892627DCB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easurement Question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be measured for 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ften should quality measurement be taken and repor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81BFE8-50E7-4E2C-9285-99FF32BCBCB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Quality - 1</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ly important to understand issues of data quality</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sults in (useful | useless) information</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governments are holders of largest data banks (are they consistent?)</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are increasingly using data to their advantage over competito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06036-F3CD-4A94-9360-627E9A48D7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Quality - 2</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rehouses present a unique challenge to keep data consist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problem is the interpretation of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7D0D6C-0FCB-4D0F-A7D9-E8856D4D08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Oriented Software Quality Assurance by Frank Gina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actitioner’s Approach to Software Engineering by Roger Pressm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3CE2E-8DB5-4646-8AA4-D3C79C6081CF}"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easurement Categories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defects or bugs in softw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of software projec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user-satisfaction level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for software projects where clients can be queried and actually use the software conscious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B7E0C5-D1A3-4D41-B119-5F43D3222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1</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volumes (by product, by time period, by geographic reg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severity lev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ategories (invalid defects, duplicates, un-duplicatable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origins (i.e., requirements, design, code, documents, or bad fix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E681E2-0223-4670-9EBC-FF167625C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2</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iscovery points (i.e., inspections, tests, customer reports,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iciency lev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d data (i.e., defects per function point or per KLO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tive factors (i.e., complexity, creeping requirements, et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1EB316-BE2B-407A-9AD8-8480B433D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Quality Measurements - 3</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pair speeds or intervals from the first report to the release of the fi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70404-429A-4854-8F94-8F35D53873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User-Satisfaction Quality Measurements - 1</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quality and reliabil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features in the software produc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ease of learn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ease of use</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customer suppor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perception of speed of defect repai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D8A74-FA21-4910-B035-9DC2F0D525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hmadmohsin</cp:lastModifiedBy>
  <dcterms:modified xsi:type="dcterms:W3CDTF">2009-04-14T04:38:06Z</dcterms:modified>
  <cp:revision>225</cp:revision>
  <dc:subject/>
  <dc:title>Software Quality Management</dc:title>
</cp:coreProperties>
</file>